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C7B4B-86B1-470E-ACA3-7D407BA4A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F5C-C9AA-4536-A98D-FB55A79D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950-A396-49F3-9780-6E78D45F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25B-D3C6-439F-93B4-A9BD3BBB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420-49C4-4EB9-8A37-92680AE0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472-C999-4C30-9240-FAABD39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0F3-AD03-4B0F-8780-36A50DA9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4DE-F61C-4004-8EE2-A22BD7F5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A1B-1D4C-4040-8696-8352B4FD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F1A-41B5-45E8-BD3E-845178BD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C78-0597-4765-8925-700EABA7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DA1-C10B-4A32-95A7-F698E6B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EDB-EB6D-45A5-BE56-C1A1A2E6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ED676-109C-4BBE-80BF-C321219DB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06524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,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3093840"/>
            <a:ext cx="9070920" cy="282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'Con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son Lab, UC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6/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756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57440" y="2057040"/>
            <a:ext cx="475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4114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build as much in an automated wa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130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336680"/>
            <a:ext cx="907092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focused on CentOS4 RPM packages for the Nelson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ing now to Cent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ackaging Chado DBs using the 1.0 sch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DB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hg18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others (mm9, rn4, panTro2, rheMac2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/2 referenc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per RPMs solve man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machines can be tainted by other repositories, source-based installs, other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machines 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quickly try the GMOD catalog of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distribute clean testing and development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is to have a virtual machine with all the Biopackages-provided tools pre-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based on CentOS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prototype CentOS4 machine with Chado 1.0 schema, recent BioPerl, and Turnkey/GMODWeb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Dave Clements on RPMs to create an updated CentOS5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8360" y="976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1800" y="1600200"/>
            <a:ext cx="797724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120680"/>
            <a:ext cx="907092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rnkey/GMODWe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expand Java producer to eliminate Perl dependenc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packag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for RPM developers (or deb package builders for Ubunt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rtual Mach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create CentOS5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GMOD demo/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Biopackages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one using GMOD tools for Next Gen Sequenc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doconnor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site auto-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Web = Turnkey + Chado + Integration w/ other projects (GBrowse, Amig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17544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5440" y="660564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800" y="4257720"/>
            <a:ext cx="9309240" cy="3002040"/>
          </a:xfrm>
          <a:prstGeom prst="roundRect">
            <a:avLst>
              <a:gd name="adj" fmla="val 51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3948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3800" y="22510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02040" y="314640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218120" y="251316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57640" y="2268360"/>
            <a:ext cx="2122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::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56360" y="2195640"/>
            <a:ext cx="2021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11840" y="2668680"/>
            <a:ext cx="2743200" cy="1217520"/>
            <a:chOff x="6711840" y="2668680"/>
            <a:chExt cx="2743200" cy="1217520"/>
          </a:xfrm>
        </p:grpSpPr>
        <p:sp>
          <p:nvSpPr>
            <p:cNvPr id="70" name=""/>
            <p:cNvSpPr/>
            <p:nvPr/>
          </p:nvSpPr>
          <p:spPr>
            <a:xfrm>
              <a:off x="823608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ffff99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9784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97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7396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7396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99ff"/>
            </a:solidFill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11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"/>
            <p:cNvCxnSpPr/>
            <p:nvPr/>
          </p:nvCxnSpPr>
          <p:spPr>
            <a:xfrm>
              <a:off x="92260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7" name=""/>
            <p:cNvCxnSpPr/>
            <p:nvPr/>
          </p:nvCxnSpPr>
          <p:spPr>
            <a:xfrm flipH="1">
              <a:off x="8692920" y="2897280"/>
              <a:ext cx="3052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7930800" y="2897280"/>
              <a:ext cx="30564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7550280" y="3138120"/>
              <a:ext cx="2160" cy="2926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0" name=""/>
            <p:cNvCxnSpPr/>
            <p:nvPr/>
          </p:nvCxnSpPr>
          <p:spPr>
            <a:xfrm>
              <a:off x="78544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1" name=""/>
            <p:cNvCxnSpPr/>
            <p:nvPr/>
          </p:nvCxnSpPr>
          <p:spPr>
            <a:xfrm>
              <a:off x="7702560" y="3125880"/>
              <a:ext cx="216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2" name=""/>
            <p:cNvCxnSpPr/>
            <p:nvPr/>
          </p:nvCxnSpPr>
          <p:spPr>
            <a:xfrm flipH="1">
              <a:off x="7168680" y="2820960"/>
              <a:ext cx="2800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H="1">
              <a:off x="7168680" y="2972880"/>
              <a:ext cx="280080" cy="252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</p:grpSp>
      <p:sp>
        <p:nvSpPr>
          <p:cNvPr id="84" name=""/>
          <p:cNvSpPr/>
          <p:nvPr/>
        </p:nvSpPr>
        <p:spPr>
          <a:xfrm>
            <a:off x="5521320" y="315288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73040" y="3449520"/>
            <a:ext cx="3971880" cy="1212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24120" y="3824280"/>
            <a:ext cx="1808280" cy="9525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83320" y="4046400"/>
            <a:ext cx="655920" cy="744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09720" y="4791240"/>
            <a:ext cx="2063520" cy="2135160"/>
            <a:chOff x="909720" y="4791240"/>
            <a:chExt cx="2063520" cy="2135160"/>
          </a:xfrm>
        </p:grpSpPr>
        <p:sp>
          <p:nvSpPr>
            <p:cNvPr id="89" name=""/>
            <p:cNvSpPr/>
            <p:nvPr/>
          </p:nvSpPr>
          <p:spPr>
            <a:xfrm>
              <a:off x="909720" y="4791240"/>
              <a:ext cx="2063520" cy="2135160"/>
            </a:xfrm>
            <a:custGeom>
              <a:avLst/>
              <a:gdLst>
                <a:gd name="textAreaLeft" fmla="*/ 360 w 2063520"/>
                <a:gd name="textAreaRight" fmla="*/ 2063160 w 2063520"/>
                <a:gd name="textAreaTop" fmla="*/ 360 h 2135160"/>
                <a:gd name="textAreaBottom" fmla="*/ 2134800 h 2135160"/>
              </a:gdLst>
              <a:ahLst/>
              <a:rect l="textAreaLeft" t="textAreaTop" r="textAreaRight" b="textAreaBottom"/>
              <a:pathLst>
                <a:path w="21600" h="22350">
                  <a:moveTo>
                    <a:pt x="16" y="0"/>
                  </a:moveTo>
                  <a:arcTo wR="16" hR="16" stAng="16200000" swAng="-5400000"/>
                  <a:lnTo>
                    <a:pt x="0" y="22334"/>
                  </a:lnTo>
                  <a:arcTo wR="16" hR="16" stAng="10800000" swAng="-5400000"/>
                  <a:lnTo>
                    <a:pt x="21584" y="22350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9640" y="594036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5480" y="503064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85880" y="5045040"/>
              <a:ext cx="1098720" cy="1650960"/>
            </a:xfrm>
            <a:custGeom>
              <a:avLst/>
              <a:gdLst>
                <a:gd name="textAreaLeft" fmla="*/ 360 w 1098720"/>
                <a:gd name="textAreaRight" fmla="*/ 1098360 w 1098720"/>
                <a:gd name="textAreaTop" fmla="*/ 360 h 1650960"/>
                <a:gd name="textAreaBottom" fmla="*/ 1650600 h 1650960"/>
              </a:gdLst>
              <a:ahLst/>
              <a:rect l="textAreaLeft" t="textAreaTop" r="textAreaRight" b="textAreaBottom"/>
              <a:pathLst>
                <a:path w="21600" h="32453">
                  <a:moveTo>
                    <a:pt x="31" y="0"/>
                  </a:moveTo>
                  <a:arcTo wR="31" hR="31" stAng="16200000" swAng="-5400000"/>
                  <a:lnTo>
                    <a:pt x="0" y="32422"/>
                  </a:lnTo>
                  <a:arcTo wR="31" hR="31" stAng="10800000" swAng="-5400000"/>
                  <a:lnTo>
                    <a:pt x="21569" y="32453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260960" y="558792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84480" y="5213520"/>
            <a:ext cx="2275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27160" y="4187880"/>
            <a:ext cx="1693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9960" y="1778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392960" y="5132520"/>
            <a:ext cx="1650960" cy="1376280"/>
            <a:chOff x="7392960" y="5132520"/>
            <a:chExt cx="1650960" cy="1376280"/>
          </a:xfrm>
        </p:grpSpPr>
        <p:grpSp>
          <p:nvGrpSpPr>
            <p:cNvPr id="98" name=""/>
            <p:cNvGrpSpPr/>
            <p:nvPr/>
          </p:nvGrpSpPr>
          <p:grpSpPr>
            <a:xfrm>
              <a:off x="7392960" y="5132520"/>
              <a:ext cx="1650960" cy="1376280"/>
              <a:chOff x="7392960" y="5132520"/>
              <a:chExt cx="1650960" cy="1376280"/>
            </a:xfrm>
          </p:grpSpPr>
          <p:sp>
            <p:nvSpPr>
              <p:cNvPr id="99" name=""/>
              <p:cNvSpPr/>
              <p:nvPr/>
            </p:nvSpPr>
            <p:spPr>
              <a:xfrm>
                <a:off x="7392960" y="5132520"/>
                <a:ext cx="1650960" cy="1376280"/>
              </a:xfrm>
              <a:custGeom>
                <a:avLst/>
                <a:gdLst/>
                <a:ahLst/>
                <a:rect l="l" t="t" r="r" b="b"/>
                <a:pathLst>
                  <a:path w="4584" h="3822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lnTo>
                      <a:pt x="0" y="3345"/>
                    </a:lnTo>
                    <a:cubicBezTo>
                      <a:pt x="0" y="3604"/>
                      <a:pt x="1041" y="3821"/>
                      <a:pt x="2290" y="3821"/>
                    </a:cubicBezTo>
                    <a:cubicBezTo>
                      <a:pt x="3539" y="3821"/>
                      <a:pt x="4583" y="3604"/>
                      <a:pt x="4583" y="3345"/>
                    </a:cubicBezTo>
                    <a:lnTo>
                      <a:pt x="4583" y="476"/>
                    </a:lnTo>
                    <a:cubicBezTo>
                      <a:pt x="4583" y="217"/>
                      <a:pt x="3541" y="0"/>
                      <a:pt x="2290" y="0"/>
                    </a:cubicBezTo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92960" y="5132520"/>
                <a:ext cx="1650960" cy="344520"/>
              </a:xfrm>
              <a:custGeom>
                <a:avLst/>
                <a:gdLst/>
                <a:ahLst/>
                <a:rect l="l" t="t" r="r" b="b"/>
                <a:pathLst>
                  <a:path w="4584" h="956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cubicBezTo>
                      <a:pt x="0" y="735"/>
                      <a:pt x="1041" y="955"/>
                      <a:pt x="2290" y="955"/>
                    </a:cubicBezTo>
                    <a:cubicBezTo>
                      <a:pt x="3539" y="955"/>
                      <a:pt x="4583" y="738"/>
                      <a:pt x="4583" y="476"/>
                    </a:cubicBezTo>
                    <a:cubicBezTo>
                      <a:pt x="4583" y="214"/>
                      <a:pt x="3541" y="0"/>
                      <a:pt x="2290" y="0"/>
                    </a:cubicBezTo>
                  </a:path>
                </a:pathLst>
              </a:custGeom>
              <a:solidFill>
                <a:srgbClr val="ffdf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394400" y="5467320"/>
              <a:ext cx="16322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264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&amp;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157040"/>
            <a:ext cx="90709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rototyp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tool for active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build up-to-date webapps integrated with other GMO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l dependenci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dicul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ource of al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design decision to use custom Perl rendering engine limits performance and appeal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key 1.4 is available and addresses some bugs since the release of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MODWeb: a web framework for the Generic Model Organism Databa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 Biol. 2008 ; 9(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virtual machine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on Updated R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turnkey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Biopackages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9805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.net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ository of software compiled for CentOS (mostly CentOS4) and Fe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m install c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make it easy to install softwar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47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3000" y="1600200"/>
            <a:ext cx="7913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resolution is a huge part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2:06Z</dcterms:created>
  <dc:creator/>
  <dc:description/>
  <dc:language>en-US</dc:language>
  <cp:lastModifiedBy>Brian O'Connor</cp:lastModifiedBy>
  <dcterms:modified xsi:type="dcterms:W3CDTF">2009-01-16T22:13:12Z</dcterms:modified>
  <cp:revision>13</cp:revision>
  <dc:subject/>
  <dc:title/>
</cp:coreProperties>
</file>